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6AC-FCAC-4186-826A-DC660B0E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70E-97DE-4597-91A3-784D5EF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61C-1ACF-4B3F-851E-D873CAD1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E92-6983-4244-80BE-05A510A0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1A0-3F78-4A01-AC2C-64A2ABA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0E0-4884-45E7-9F5A-6A03308E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94B-8ECA-4C3E-A5D5-0202A3EB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424-36F5-4DD1-A9FE-3F5A9D0E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F8B-DE1B-4252-947B-D8B2D430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9DE-3637-4A75-9C01-4EB22EB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C12-7D90-4D8C-ADE3-E6A50D3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EEC-C282-481B-AE46-66480BD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96C7-EA44-48FC-B6C0-283FDE110DF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my\My Documents\My stuff\My Pictures\pictures\coooool!!!!!.jpg"/>
          <p:cNvPicPr/>
          <p:nvPr/>
        </p:nvPicPr>
        <p:blipFill>
          <a:blip r:embed="rId1"/>
          <a:stretch/>
        </p:blipFill>
        <p:spPr>
          <a:xfrm>
            <a:off x="-208080" y="-158760"/>
            <a:ext cx="9663120" cy="725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oadway"/>
              </a:rPr>
              <a:t>Space</a:t>
            </a: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ll MT"/>
              </a:rPr>
              <a:t>By Ben Bu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they d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984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6984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://beyondthestarsastrology.files.wordpress.com/2010/01/planets.jpg"/>
          <p:cNvPicPr/>
          <p:nvPr/>
        </p:nvPicPr>
        <p:blipFill>
          <a:blip r:embed="rId1"/>
          <a:stretch/>
        </p:blipFill>
        <p:spPr>
          <a:xfrm>
            <a:off x="457200" y="2133720"/>
            <a:ext cx="4686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ht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us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6984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://www.rlrouse.com/astronomy/light-year.gif"/>
          <p:cNvPicPr/>
          <p:nvPr/>
        </p:nvPicPr>
        <p:blipFill>
          <a:blip r:embed="rId1"/>
          <a:stretch/>
        </p:blipFill>
        <p:spPr>
          <a:xfrm>
            <a:off x="2438280" y="182880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fe Cycle of a Mid-sized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t0.gstatic.com/images?q=tbn:ANd9GcTfBc7H-XEdZLAjS8zimrRJoGobsYjiEUqLmC1c4eStChlrGI0-&amp;t=1"/>
          <p:cNvPicPr/>
          <p:nvPr/>
        </p:nvPicPr>
        <p:blipFill>
          <a:blip r:embed="rId1"/>
          <a:stretch/>
        </p:blipFill>
        <p:spPr>
          <a:xfrm>
            <a:off x="0" y="2620800"/>
            <a:ext cx="914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el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t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www.nhn.ou.edu/~jeffery/astro/constellation/constellation_north.gif"/>
          <p:cNvPicPr/>
          <p:nvPr/>
        </p:nvPicPr>
        <p:blipFill>
          <a:blip r:embed="rId1"/>
          <a:stretch/>
        </p:blipFill>
        <p:spPr>
          <a:xfrm>
            <a:off x="2971800" y="1600200"/>
            <a:ext cx="5533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905120"/>
            <a:ext cx="213372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6600" y="460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66600" y="460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Sun_3D_Screensaver-screenshot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9051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160020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ways it m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Oon"/>
          <p:cNvPicPr/>
          <p:nvPr/>
        </p:nvPicPr>
        <p:blipFill>
          <a:blip r:embed="rId1"/>
          <a:stretch/>
        </p:blipFill>
        <p:spPr>
          <a:xfrm>
            <a:off x="2133720" y="1143000"/>
            <a:ext cx="52480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 and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it happ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143160" y="2629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daynight-pixarshort-firstlook-fullsize-300x168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a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83808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they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4seasons"/>
          <p:cNvPicPr/>
          <p:nvPr/>
        </p:nvPicPr>
        <p:blipFill>
          <a:blip r:embed="rId1"/>
          <a:stretch/>
        </p:blipFill>
        <p:spPr>
          <a:xfrm>
            <a:off x="2590920" y="1447920"/>
            <a:ext cx="48290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it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SEDiagram1c"/>
          <p:cNvPicPr/>
          <p:nvPr/>
        </p:nvPicPr>
        <p:blipFill>
          <a:blip r:embed="rId1"/>
          <a:stretch/>
        </p:blipFill>
        <p:spPr>
          <a:xfrm>
            <a:off x="1143000" y="2130480"/>
            <a:ext cx="6705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00200"/>
            <a:ext cx="1752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ttp://t0.gstatic.com/images?q=tbn:ANd9GcSOTj9P0Y2CstJmeQavkDOF1sv4K81yQ9uHSKgK5n2Gcy8AWM09NA"/>
          <p:cNvPicPr/>
          <p:nvPr/>
        </p:nvPicPr>
        <p:blipFill>
          <a:blip r:embed="rId1"/>
          <a:stretch/>
        </p:blipFill>
        <p:spPr>
          <a:xfrm>
            <a:off x="1981080" y="1600200"/>
            <a:ext cx="6553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lky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2.gstatic.com/images?q=tbn:ANd9GcQYAsrfLzSgmZkgS5fYE9AVSoqBubw7mFqu3sQx1ikhHIkAi1KO"/>
          <p:cNvPicPr/>
          <p:nvPr/>
        </p:nvPicPr>
        <p:blipFill>
          <a:blip r:embed="rId1"/>
          <a:stretch/>
        </p:blipFill>
        <p:spPr>
          <a:xfrm>
            <a:off x="2819520" y="1523880"/>
            <a:ext cx="5105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teroids and Co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t0.gstatic.com/images?q=tbn:ANd9GcQ_zAiH8hYnsvRt0WEglXS18NZIimLv5gNVUtopYE5QDBYaKA4scB7J-wo0"/>
          <p:cNvPicPr/>
          <p:nvPr/>
        </p:nvPicPr>
        <p:blipFill>
          <a:blip r:embed="rId1"/>
          <a:stretch/>
        </p:blipFill>
        <p:spPr>
          <a:xfrm>
            <a:off x="106668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69840" y="-669960"/>
            <a:ext cx="1047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69840" y="-669960"/>
            <a:ext cx="1047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http://www.crystalinks.com/cometsky.jpg"/>
          <p:cNvPicPr/>
          <p:nvPr/>
        </p:nvPicPr>
        <p:blipFill>
          <a:blip r:embed="rId2"/>
          <a:stretch/>
        </p:blipFill>
        <p:spPr>
          <a:xfrm>
            <a:off x="5257800" y="1660680"/>
            <a:ext cx="38862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5-23T14:48:29Z</dcterms:modified>
  <cp:revision>4</cp:revision>
  <dc:subject/>
  <dc:title>Space </dc:title>
</cp:coreProperties>
</file>